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DFD-1759-40C5-9B7D-1CCEE321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DF7-75A0-4819-9496-D7E7DB07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7E9-B8EB-4F21-969D-78F06B21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97C-04C5-4A93-A7CA-38A313F6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D22-3A80-42DD-803A-9DF7FECF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B8C-8980-42E5-9B85-1AAC4C6C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7E9-F0A5-4132-94F8-1A3603EA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542-587D-4D2C-BC5A-895C97A6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51A-4EEC-46D0-8FB4-0516A427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137-3CFB-4552-95B0-F9DCD00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CB1-4CF6-4EEF-8370-8516A69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025-5AC0-4D00-AF00-E35A0D55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C852-4093-452C-B5A1-CE9859887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4 K svojmu krížu veď ma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vojmu krížu veď m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mil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ním hojnosť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vný zdroj si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kríži mrel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rchu hriechov nies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u vinu krvou z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tratený nie s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om biedny, zra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istov kríž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na mňa pozr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u som na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 moja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a nádej,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aj za mňa zomr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utiekam 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1:59:45Z</dcterms:modified>
  <cp:revision>20</cp:revision>
  <dc:subject/>
  <dc:title>Je veľký náš Pán, on slávy je Kráľ Nech do všetkých strán  spev vrúcnych znie chvál.</dc:title>
</cp:coreProperties>
</file>